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414-6A21-4B85-9CD9-445E108B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6D5-9324-4687-BB4E-DBFDA5CC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16E-AD75-4409-B4C7-D567556D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E86-B3B7-4A8B-9EFE-9F657497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BBFA-0EE3-4BD7-803A-A21E623C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AD2-FCD8-4390-B633-64328C70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808-2CD2-41FC-8807-36F9FE5D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567-789B-449D-A3CF-392CFD04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17F-BE59-480B-A062-646A6ADB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E8F-EE7E-41D0-AB5D-6FA8621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F8AA-C5EA-4597-B933-2D8D9C8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D68-1AC4-4964-84FB-FC772191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21B7-BB3D-4D16-B5C4-759B895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553-9BF1-4D6F-9710-C907CBEE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378A-684A-47DB-BE5B-FDDF8BB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97E7-0E50-486B-9AB4-A1B6B022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4C10-13A8-4386-AF6C-B7E7DC29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D49-935F-4F2A-9998-64B8FAC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E48-EC8A-482D-A59A-B95267C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4B3-9167-4C13-B1DB-E24D98D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46F-C5F4-459C-94C8-0400F99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449-0826-4DA2-8F6D-0FBD187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21D-09BE-4194-AD41-60B57A6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F66-9630-4AFB-8489-EA77538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875-ACBF-42EF-BED8-60A8BE77E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EBF-CEE0-4667-BE6A-E590CAAE3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7: Evaluating and Controlling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formation, Knowledge, and Judgment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valuate the reliability of information you find on the Web?  How do your evaluation methods compare to the way you evaluate information from other sour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mputer models are better than others.  What types of models work well?  What types don't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human nature to form associations based on common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ared early technologies, such as telephones, thinking communication would be de-human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and the Internet were blamed for the decline in community involvement and memberships in clubs and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provides communities focused on specialized interests or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brings people together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nd the Internet provide convenient and cheap ways for families and friends to stay in co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rends include social-networking sites such as MySpace and virtual environments such as Second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omputers and Community 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nvincing is the argument that electronic commerce threatens small (“brick and mortar”) community businesses and thus the health of small communities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that communicating by text messaging and via social-networking sites depersonalizes or dehumanizes your relationships with frien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"Digital Divide"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s in Computer Acc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chnologies only available to the weal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it takes for new technology to make its way into common use is decr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is not the only factor; ease of use plays a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preneurs provide low cost options for people who cannot otherwise afford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s technology in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echnology becomes more prevalent, the issues shift from the haves and have-nots to level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The "Digital Divide"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al Divide and the Next Billion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one billion people worldwide have access to the Web; approximately five billion do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profit organizations and huge computer companies are spreading computer access to people in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new technology to poor countries is not just a matter of money to buy equipment; PCs and laptops must work in extreme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eople actively working to shrink the digital divide emphasize the need to provide access in ways appropriate to the local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valuations of the Impact of Computer Technolog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o-Luddite View of Computers, Technology, and Human Nee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cause massive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eal need (We use technologies because they are there, not because they satisfy real nee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cause social ineq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 big business and the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little or nothing to solve re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separate humans from nature and destroy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Evaluations of the Impact of Computer Technolog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plishments of Techn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s of food are down and raw materials are abund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buying power i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upplies and GDP are growing faster tha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impact on life expec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ive technologies benefit those with dis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Making Decisions About Technolog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fficulty of Predi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ew technology finds new and unexpecte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story of technology is full of wildly wrong pre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zenbaum argued against developing speech recognitio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taken expectations of costs and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we decline a technology because of potential abuse and ignore the benef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chnologies are often expensive, but costs drop as the technology advances and the demand in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Making Decisions About Technology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igent Machines and Super-intelligent Humans - Or the End of the Human Ra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ical Singularity - point at which artificial intelligence or some combined human-machine intelligence advances so far that we cannot comprehend what lies on the other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prepare for aftermath, but prepare for more gradual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decision making process most likely to produce what people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, Knowledge, and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and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‘Digital Divid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 of the Impact of Computer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Decisions About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Making Decisions About Technology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could decide what technologies should be developed, what would you develop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spect of super-intelligent robots sca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 information or ‘wisdom of the crowd’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nting amount of information on the web, much of this information is not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engines are replacing librarians, but Web sites are ranked by popularity, not by expert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dom of the crowd - ratings by public of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illions participate, the results will be use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ped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by volunteers, some posts are biased and not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anyone can write, most people do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that do typically are educated and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dom of the cro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of unreliable information are not n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magnifies th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ng systems are easy to manip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le vie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educated 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ilities of site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identify user-suppl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clear which information has been ver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Information on the Web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ion of im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s and videos use special effects to add creativity and enjoyment of enter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can use technology for deception and fr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 with which we can modify digital images and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news agencies modify images and vide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king photos is not a new phenomenon; more people can do it now because it’s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, Thinking and Deci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ools have displaced skills that were once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icating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illing to let computers do their 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nce on computer systems over human judgment may become institution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of having to defend your own judgment if something goes w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Mod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ell do the modelers understand the underlying science or the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necessarily involve assumptions and simplifications of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losely do the results or predictions correspond with the results from physical experiments or real experi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Information, Knowledge, and Judgment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Model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models may not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ight not have complete knowledge of the system we are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a describing current conditions or characteristics may be incomplete of in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power may be inadequate for the complexity of th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difficult, if not impossible, to numerically quantify variables that represent human values and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23:24:24Z</dcterms:modified>
  <cp:revision>43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